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C66-9E84-4453-B8CE-C99B3E95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AC5-0342-4B43-92E3-7B709382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CFF-202E-4B71-B471-DADF77FA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3B9-6759-408F-B25C-A0710476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0E3-62D6-47AF-94E4-CE8336AF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F71-BC3C-45C1-9913-70734FF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CCD-1FD0-48BC-8123-44DE005C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2EE-2599-4287-9019-756FCD97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794-C512-443D-B587-3341389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4FD-A2C2-4354-BEB1-FEFED6E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2EB-E722-48C2-A617-9B03B6EF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A80-02E7-455C-A91E-054E3E2B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F210-96C4-4DE1-BB95-D7F237368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00"/>
                </a:solidFill>
                <a:latin typeface="Comic Sans MS"/>
              </a:rPr>
              <a:t>First Grade High Frequency Words….List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litt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ver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u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bee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ou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bu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you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from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pu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ma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00"/>
                </a:solidFill>
                <a:latin typeface="Arial"/>
              </a:rPr>
              <a:t>was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wha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he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saw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pla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wh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aft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with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now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hav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int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tha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said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awa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0:20Z</dcterms:created>
  <dc:creator>JEacott</dc:creator>
  <dc:description/>
  <dc:language>en-US</dc:language>
  <cp:lastModifiedBy>Jennifer Dalton</cp:lastModifiedBy>
  <dcterms:modified xsi:type="dcterms:W3CDTF">2011-10-31T11:31:44Z</dcterms:modified>
  <cp:revision>6</cp:revision>
  <dc:subject/>
  <dc:title>Word List 2</dc:title>
</cp:coreProperties>
</file>